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A71-7D41-4158-9AC0-C0B40787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B1D-B633-4EA9-BC9D-7D50D889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303-0190-4684-91E0-23EB32B1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345-94A9-4A90-8AE0-DC2253A6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528-A91A-4936-80BB-9D058FDD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2CA-5D60-4277-8149-664762F9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491-717B-4FDC-A3B1-1FAD2B5D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66A-08C0-460B-8FAD-CDAF6407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0B9-EA77-4581-9A00-3D20A449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997-4085-4BC5-B729-15A45F92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027-5F1F-4BD9-A412-F98CD2E3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2B4-6FA2-47C3-A27F-E4CC0C26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4679-43D3-4807-A03E-AA0304387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ild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ildBaseline9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ildBaseline10.jpg"/>
          <p:cNvPicPr/>
          <p:nvPr/>
        </p:nvPicPr>
        <p:blipFill>
          <a:blip r:embed="rId1"/>
          <a:stretch/>
        </p:blipFill>
        <p:spPr>
          <a:xfrm>
            <a:off x="771480" y="843120"/>
            <a:ext cx="76010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ildBaseline1.jpg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ildBaseline2.jpg"/>
          <p:cNvPicPr/>
          <p:nvPr/>
        </p:nvPicPr>
        <p:blipFill>
          <a:blip r:embed="rId1"/>
          <a:stretch/>
        </p:blipFill>
        <p:spPr>
          <a:xfrm>
            <a:off x="776160" y="838080"/>
            <a:ext cx="7591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ildBaseline3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Baseline3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hildBaseline4.jpg"/>
          <p:cNvPicPr/>
          <p:nvPr/>
        </p:nvPicPr>
        <p:blipFill>
          <a:blip r:embed="rId2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ildBaseline5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ildBaseline6.jpg"/>
          <p:cNvPicPr/>
          <p:nvPr/>
        </p:nvPicPr>
        <p:blipFill>
          <a:blip r:embed="rId1"/>
          <a:stretch/>
        </p:blipFill>
        <p:spPr>
          <a:xfrm>
            <a:off x="776160" y="838080"/>
            <a:ext cx="7591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ildBaseline7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ildBaseline8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13:29:17Z</dcterms:created>
  <dc:creator>zcui</dc:creator>
  <dc:description/>
  <dc:language>en-US</dc:language>
  <cp:lastModifiedBy>rbalne</cp:lastModifiedBy>
  <dcterms:modified xsi:type="dcterms:W3CDTF">2009-08-12T13:57:11Z</dcterms:modified>
  <cp:revision>2</cp:revision>
  <dc:subject/>
  <dc:title>Slide 1</dc:title>
</cp:coreProperties>
</file>